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2B2-6FF3-4363-B7D3-7FC331C9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F50-B73E-4175-9A81-0ACC24A3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D04-F8A4-48E2-9F1C-F6E7124C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F68-210E-4690-9183-FD6D038D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40EA-ABC5-437E-BA94-E4CC01D2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EF4B-5246-4E7D-A8C5-9164B7C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AA10-11F0-42CB-8702-B9EC1626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A5DC-A2FE-40E9-B058-60340D37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AE02-F674-4607-A826-8034EAD6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DB26-D5AA-4890-8AFE-C1266FAF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FE06-331A-4714-894C-5A9BABB2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4D2-4767-49E0-81DE-3D4BC8EF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3162-BA95-4C31-934C-8E8920F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9F6A-ADBB-4B45-BC81-EF39E024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50DC-7EF0-4E9B-9F4F-D0BBF205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88AA-AD68-4D0E-9E9D-6C054A97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E45B-726F-4AAE-B320-1E708D41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B4F35-E50D-4A75-8B9C-BCF38971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EC66-20CE-451A-99E5-60FB696C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238A-2226-4FB5-A4E2-D29221E8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8199-09AE-4880-B75C-1F2666B1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3727-1520-4003-9DD0-1AB468D0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703-FE1C-4545-826F-E74004C8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1F89-1BED-454A-BA69-7FBFFF85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F487-AD0C-4A6E-843B-CADC7FC3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7EF0-4DF7-403F-A12D-3C95531E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94C4-E923-44CE-9F8F-258C296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95BB5-1354-4F0F-ABD0-835A4088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FE10-3E59-40A3-BD3D-82CDC51E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5C99-2216-4FE3-9405-5C30FAC1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2E826-D081-4CB3-A4CE-0C57F24A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3D7F1-31DE-4078-BF06-F3427F69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A4AA-0A5D-4324-8AF9-DE32FB26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C29-AF56-4A4B-8991-60C81AEF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A12F2-0D61-41C4-B4E6-6E6229D1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A09F-F4EA-489E-8E04-206D1D2E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F1D0-F1F1-4FAE-ACEF-537110C2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64CF-5DD1-4986-B3EA-4E9E90A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D3B27-E231-46BA-94C4-3CA45507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F918-9778-4D11-A5CE-C3E9818E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263A-B6D2-48EC-B567-4C2C1E8D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969B-F413-4503-AB50-D666BE0E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D18C8-0B4D-40A8-BAB3-079C8722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DB8-7B2C-496A-AA42-179371DE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175-4711-45F0-AE94-6CAF4DC9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E0D-6C46-4AF6-B7E0-0121BB16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007-E523-4D27-8000-B508049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A1F-CC56-4ED5-B0B0-7A17EEB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84E1-ED19-42DB-A5A5-3310691E2F5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23A-0C6F-4B93-94C0-2B7B19A4299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6EE3-C04B-4AC7-AE0B-7D27A779E20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6F6F-852D-4758-ACAF-3C9776C849B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r-CS" sz="4800" spc="-1" strike="noStrike">
                <a:solidFill>
                  <a:srgbClr val="ffff00"/>
                </a:solidFill>
                <a:latin typeface="Arial"/>
                <a:ea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320" y="236232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sr-RS" sz="2200" spc="-1" strike="noStrike">
                <a:solidFill>
                  <a:srgbClr val="ff0000"/>
                </a:solidFill>
                <a:latin typeface="Arial"/>
              </a:rPr>
              <a:t>, С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мино форма (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sr-Latn-R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груп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G, 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кето форма (СО група)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Right Arrow 1"/>
          <p:cNvSpPr/>
          <p:nvPr/>
        </p:nvSpPr>
        <p:spPr>
          <a:xfrm>
            <a:off x="3429000" y="502920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ight Arrow 4"/>
          <p:cNvSpPr/>
          <p:nvPr/>
        </p:nvSpPr>
        <p:spPr>
          <a:xfrm>
            <a:off x="6172200" y="498312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Right Arrow 5"/>
          <p:cNvSpPr/>
          <p:nvPr/>
        </p:nvSpPr>
        <p:spPr>
          <a:xfrm>
            <a:off x="3405240" y="609588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ight Arrow 6"/>
          <p:cNvSpPr/>
          <p:nvPr/>
        </p:nvSpPr>
        <p:spPr>
          <a:xfrm flipV="1">
            <a:off x="6075360" y="6095880"/>
            <a:ext cx="304920" cy="46080"/>
          </a:xfrm>
          <a:prstGeom prst="rightArrow">
            <a:avLst>
              <a:gd name="adj1" fmla="val 50000"/>
              <a:gd name="adj2" fmla="val 4962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0000cc"/>
                </a:solidFill>
                <a:latin typeface="Arial"/>
                <a:ea typeface="Arial"/>
              </a:rPr>
              <a:t>K</a:t>
            </a:r>
            <a:r>
              <a:rPr b="0" lang="sr-CS" sz="5000" spc="-1" strike="noStrike">
                <a:solidFill>
                  <a:srgbClr val="0000cc"/>
                </a:solidFill>
                <a:latin typeface="Arial"/>
                <a:ea typeface="Arial"/>
              </a:rPr>
              <a:t>од, кодон, антикод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Ko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Кодон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Антикод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т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cc"/>
                </a:solidFill>
                <a:latin typeface="Arial"/>
                <a:ea typeface="Arial"/>
              </a:rPr>
              <a:t>Основне карактеристике кода/кодо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Универзал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ступа само мт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дир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к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ећ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G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су означени као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бесмислени (нонсенс), стоп код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ницијални 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старт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он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генеративност код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/код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једну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ира већи број кодона, осим триптофана и метионина које од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е само по један код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Одсуство преклапањ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и елементи једног кодона нису у исто време елементи другог код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3translation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://highered.mcgraw-hill.com/sites/0072437316/student_view0/chapter14/animations.html#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08-22T09:57:29Z</dcterms:modified>
  <cp:revision>102</cp:revision>
  <dc:subject/>
  <dc:title>2-Humani genom</dc:title>
</cp:coreProperties>
</file>